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B19A-577D-4A30-913B-658651A66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98E5-17FD-4DBE-85E3-07A3D771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E426-305A-4A37-9EDB-AA2C91E9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26E4-095D-4234-835A-427BF718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94AC-03C4-40E5-B074-B07AFED7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F2DA-A6AF-4E58-A054-7EC6DBD7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E64C-5160-4316-AD4D-B152524F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5611-33B5-4466-B1B3-1F4173EA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49E2-028D-48EC-876B-DD70A2CB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64A3-8FE1-4FB5-8DD1-E71EB463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AB3A-1C11-4058-9B5E-8E2B6797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17C9-A9E8-4FCF-AF08-7A5F297F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937F-E51B-4B3C-A939-080A869FCDDE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3B7C-9DD0-4F63-A638-4E0571C39638}" type="slidenum">
              <a:rPr b="0" lang="en-US" sz="1400" spc="-1" strike="noStrike">
                <a:solidFill>
                  <a:srgbClr val="cc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Chapter 6 Continued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Energy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erg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: The ability to do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echanical Energy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n-mechanical Energy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Energy     Kinetic Ener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/Gravitat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ar/Atom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nergy is measured in Joules just like wor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hapter we will be focusing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chanical Ener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1760400" y="2252520"/>
            <a:ext cx="812880" cy="47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24040" y="2286000"/>
            <a:ext cx="2793960" cy="507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523880" y="3166920"/>
            <a:ext cx="627120" cy="35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03640" y="3166920"/>
            <a:ext cx="1015920" cy="338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333760" y="3200400"/>
            <a:ext cx="83880" cy="33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23000" y="3166920"/>
            <a:ext cx="541440" cy="35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6146280" y="3200400"/>
            <a:ext cx="271800" cy="101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03840" y="3182760"/>
            <a:ext cx="541440" cy="111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4825800" y="3166920"/>
            <a:ext cx="236520" cy="191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26160" y="5097600"/>
            <a:ext cx="982440" cy="33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049400" y="3894120"/>
            <a:ext cx="3398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06600" y="3878280"/>
            <a:ext cx="322200" cy="35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y Energy Help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on, in general, is hard to calcu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forces, momentum, acceleration, etc. gets complicated because they are all vectors (have magnitude &amp; direc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is not a vector; it’s just a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predict motion by figuring out how much energy that motion will “cost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otential Energy (PE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energy is also called “stored energy” or energy of po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vitational potential energy of an object i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otential Energy) = (Weight) x (Heigh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m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of potential energy as stored energy or energy “in the bank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etric unit of energy is Joules (same as for wor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ample Proble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5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otential energy of a 6kg bowling ball at a height of 20 me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eight of the ball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Weight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 (Mass) x (Gravity Accele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 ( 6 kg ) x ( 9.8 m/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) = 59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tential energy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Potential Energy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 ( Weight ) x ( Heigh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 ( 59 N ) x ( 20 m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 1180 Jo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What is potential energy at zero he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t a height of zero meters PE is zero Jo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26280" y="6108840"/>
            <a:ext cx="1587600" cy="20304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5922" r="-1035" b="2953"/>
          <a:stretch/>
        </p:blipFill>
        <p:spPr>
          <a:xfrm>
            <a:off x="7497720" y="334800"/>
            <a:ext cx="1035000" cy="997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112160" y="1282680"/>
            <a:ext cx="0" cy="4775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35840" y="2285640"/>
            <a:ext cx="13968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6907320" y="30333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720200" y="671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493040" y="4437000"/>
            <a:ext cx="1035000" cy="1665360"/>
            <a:chOff x="7493040" y="4437000"/>
            <a:chExt cx="1035000" cy="1665360"/>
          </a:xfrm>
        </p:grpSpPr>
        <p:pic>
          <p:nvPicPr>
            <p:cNvPr id="69" name="" descr=""/>
            <p:cNvPicPr/>
            <p:nvPr/>
          </p:nvPicPr>
          <p:blipFill>
            <a:blip r:embed="rId2"/>
            <a:srcRect l="0" t="5922" r="-1035" b="2953"/>
            <a:stretch/>
          </p:blipFill>
          <p:spPr>
            <a:xfrm>
              <a:off x="7493040" y="5105520"/>
              <a:ext cx="1035000" cy="99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 flipV="1">
              <a:off x="7988400" y="4495320"/>
              <a:ext cx="0" cy="55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8170920" y="455148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8323200" y="475416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7904160" y="443700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7769160" y="455616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7604280" y="484776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Potential Energ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retched rubber band has the ability to do work.  We call this type “elastic potential energy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stic potential energy of an object i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otential Energy) = 1/2 (spring constant) x (distance compressed or strectched)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las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/2 k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” is the spring constant.  It’s a number that tells how “stiff” the spring is.  It’s measured in N/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” is the distance the spring is compressed or stretched from its relaxed position.  (me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inetic Energy (KE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etic energy of an object i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inetic Energy) = 1/2 x (Mass) x (Speed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 = 1/2 m 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etic energy is the energy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tionary object has zero kinetic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 bowling ball and a volleyball are rolling at the same speed.  Which has more 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wling ball, because it has more mas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Kinetic Energ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: What happens to the kinetic energy of an object if its mass were to suddenly dou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It doubles.  Mass and KE are directly proport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: What happens to the kinetic energy of an object if its velocity is doubl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It quadruples.  KE is directly proportional to the square of an object’s veloc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: What happens to the kinetic energy of an object if its velocity is tripl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It becomes nine times great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ample Proble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5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kinetic energy of a 6kg bowling ball, falling from a height of 20 meters, just as it reaches the grou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akes 2 seconds to fall a distance of 20 m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ject’s speed after falling 2 seconds is 19.8 m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inetic energy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Kinetic Energy) = 1/2 ( Mass ) x ( Speed ) x (Spe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1/2 ( 6 kg ) x ( 19.8 m/s ) 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1180 Jo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Note.  This is the same as its potential energy at its starting height from the previous examp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26280" y="6108840"/>
            <a:ext cx="1587600" cy="20304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5922" r="-1035" b="2953"/>
          <a:stretch/>
        </p:blipFill>
        <p:spPr>
          <a:xfrm>
            <a:off x="7493040" y="5105520"/>
            <a:ext cx="1035000" cy="996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rcRect l="0" t="5922" r="-1035" b="2953"/>
          <a:stretch/>
        </p:blipFill>
        <p:spPr>
          <a:xfrm>
            <a:off x="7497720" y="334800"/>
            <a:ext cx="1035000" cy="997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124760" y="1282680"/>
            <a:ext cx="0" cy="4775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048440" y="2285640"/>
            <a:ext cx="13968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6907320" y="30333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720200" y="671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7988400" y="4495320"/>
            <a:ext cx="0" cy="55908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8170920" y="4551480"/>
            <a:ext cx="0" cy="55872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8323200" y="4754160"/>
            <a:ext cx="0" cy="40644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7904160" y="4437000"/>
            <a:ext cx="0" cy="55872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7769160" y="4556160"/>
            <a:ext cx="0" cy="55872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7604280" y="4847760"/>
            <a:ext cx="0" cy="40644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088480" y="4240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20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01:48:54Z</dcterms:created>
  <dc:creator>Garcia</dc:creator>
  <dc:description/>
  <dc:language>en-US</dc:language>
  <cp:lastModifiedBy>PSD</cp:lastModifiedBy>
  <dcterms:modified xsi:type="dcterms:W3CDTF">2010-02-02T14:56:16Z</dcterms:modified>
  <cp:revision>242</cp:revision>
  <dc:subject/>
  <dc:title>Slide 1</dc:title>
</cp:coreProperties>
</file>